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621240" y="-144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-360" y="824076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D07A8B0-6C57-40C0-9316-450B9719608F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610000" y="82612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F261A38D-3F73-4D85-979A-7FE0EB26511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03320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13EE8D6-648A-4FD7-A293-6E02203A998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033D295-2C26-41C2-9E8D-262703A1D9D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1A8C428-F80B-475D-AFC7-52663FFD2EF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23F7525-8D8B-49BE-90AA-616C926A62B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53A0650-646A-4C71-8EAC-7DC3D3E2444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44AC506-F35C-4912-8652-508C546F0A2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CB7DB13-D137-4666-81AC-6A1ED7231C1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ABC60FF-37D3-4988-AFC6-72923186101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50913B4-344A-463A-B2D4-45BA95AE0C2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0586E89-EFB9-4271-9E98-E1EC0088C0C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A4C1B43-8C78-4465-AFB1-26BA78CF8A4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8A55BE1-9831-4293-A2D7-211E7E89802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A32258E-A470-41F2-B024-EC9A8DF83A2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D73CA1C-F1BB-418A-A5F4-57ADB55894E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B01F6B8-C0AC-492E-AEA5-64BAAF71FDB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397F4E6-E973-4F06-8166-AF4825D5EB2F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7EEF44A-6ECB-4597-BB25-291D1D73E3D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ACE01E3-39B7-42A5-BBE3-9F26EABD70C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F3C9725-AB22-4026-BA58-5579C160C3C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1938C43-7F93-47B2-96F3-A2A31C7AE1B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6D4838E-15A5-4D67-8891-C2FB6B3531D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75FB343-6A90-4AA3-9255-5DBA60417A2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3347829-ED40-4EAF-963D-3AE36C5F87F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4EE8388-4956-49D2-BABF-D756C6A00DD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80A1E53-D593-4C00-9793-F9469E973E5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E30E449F-557E-44C9-B7A5-0E44077DD8CC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9C743E8F-0A2F-48EB-999B-A1B54568FB4A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888480"/>
            <a:ext cx="80391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 R4: Midterm Analysis Repor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ow Good Is My Process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ipal dimensions of process quality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ycle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improvement must start from the current process, the first step is to establish measures of current process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, you can ask more informed ques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asuring Process Quality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building a basic understanding of your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do you d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time do you spen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is this time distribu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predictable is your wor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stable is your wor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quality of the products you produ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addresses these issues by gathering basic process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Measu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asic PSP data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spent by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and injected by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th actual and estimated data are gathered on every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rived measures establis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to support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s of process qual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ize Meas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oals of the PSP size measures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a consistent size measu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basis for normalizing time and defect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make better size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estions aske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size program did I plan to develop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accurate was my size estima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my size estimates biased in any wa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was the complete size description of the finished progra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Time Meas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oals of the PSP time measures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how much time you spend in each PSP ph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you to make better time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estions aske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time did you plan to spend by PSP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time did you spend by PSP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here any trends in your time estimating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1576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Defect Meas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oals of the PSP defect measures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 historical baseline of defect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numbers and types of defects inj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relative costs of removing defects in each PSP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estions aske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any defects did I make in each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any defects did I remove in each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time did it take to find and fix each defec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ablishing a Process Baseline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you getting better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an objective basis to te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ing alone will not cause improv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stical vari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erformance will fluctu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ement is a statistical ques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lst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utch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1720" y="1463400"/>
            <a:ext cx="77277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is assignment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process for analyzing your PSP data and producing a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planning and postmortem phases in this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your process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 the R4 report ta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your proces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the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the postmor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the report, process, and the proces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01360" y="1450800"/>
            <a:ext cx="79563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port must cont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nalysis for size time estimating accuracy and how it evolved during the programs developed to d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nalysis for time estimating accuracy and how it evolved during the programs developed to d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nalysis of the defect types injected and removed for the programs developed to date (table D23, page 77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nalysis of the defects found by the compiler (table D24, page 77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nalysis of the defect fix times, R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escription of your highest-priority areas for personal process improvement, with rationa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etting Goal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13960" y="1450800"/>
            <a:ext cx="78548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are expected 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your highest-leverage opportunities for improving your personal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quantitative, measurabl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be the specific actions (e.g. process changes) that you will take to achieve thes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 a minimum, you should take the following steps to establish your goa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ine your PSP data to understand your current performanc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potential improv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oritize improvement areas based on potential leve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uct an analysis to identify the cause of current performance and to establish specific future performance lev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the specific actions needed to achieve these performance lev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eneral Guidelin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1450800"/>
            <a:ext cx="7842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nt the charts from your student workbook that cover the minimum analys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ze your data.  There are study questions that provide an example of how you might analyze your data for specific areas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e sure to include any additional charts that you use in your analysis in your repor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cus on analyzing your data 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where you need to impro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challenging improvement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derstand how to change your personal process to meet those goa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rite up a brief report describing your findings and conclusion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ep your report simple and shor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2840" y="510840"/>
            <a:ext cx="7718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of LOC Estimating Accurac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22240" y="1649520"/>
            <a:ext cx="79725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the trend in your size estimating accuracy over the first six program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of programs 4, 5, and 6, how does the estimated object LOC compare with the actual object LOC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of programs 4, 5, and 6, if the estimated object LOC is not close to the actual object LOC, determine why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the above analysis, what is the best thing you could do to improve your estimating accurac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the PROBE tab of your student workbook and set the program selector for program 7.  Examine the method A betas.  Are they usable for estimating program 7?  Explain why or why no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2840" y="510840"/>
            <a:ext cx="79200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of Time Estimating Accuracy and Productiv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20440" y="1655640"/>
            <a:ext cx="77007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the trend in your effort estimating accuracy over the first six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first six programs, how stable was your productiv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first six programs, if your productivity varied, are the changes in productivity related to the amount of time you spent fixing defects in the compile and test phas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was the accuracy of your time estimates affected by the accuracy of your size estimat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the PROBE tab of your student workbook and set the program selector for program 7.  Examine the method A betas.  Are they usable for estimating program 7?  Explain why or why no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42840" y="510840"/>
            <a:ext cx="79200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of Defect Types Injected and Removed by Pha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0440" y="1655640"/>
            <a:ext cx="77007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types of defects are injected most in the design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types of defects are injected most in the code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types of defects are primarily removed in the compile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types of defects are primarily removed in the test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of Defect Fix Tim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20800" y="14522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the defect fix times, based on the phase defects are injected and remov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category had the largest average fix tim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category had the largest total fix tim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of Defects Found by the Compil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20800" y="16682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the compiler’s effectiveness of removing defects by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d the compiler find all of your type 20 (syntax/typo) defect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process design must include 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ning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ment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mortem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must subm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process scri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lanning form you created and u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 forms or logs you u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report must inclu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of the tables and charts required, plus any other charts or data that support your analys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written analysis and conclu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itative, measurable improvement goals, and specific actions that you plan to take to achieve thos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1720" y="1450800"/>
            <a:ext cx="79819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for this assignment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principles of process measurement and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in experience in defining a process for your own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to analyze your proces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your baseline process and how it has changed during the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measurable goals and to define corresponding improvement a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1576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Measurement Principl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be useful, measurements should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ed for a specific purpo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icitly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erly manag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erly use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ing your process will not improve it.  You must make process changes to achieve lasting improv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Measurement Purpos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measu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and manage cha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 or plan for the futu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one product, process, or organization with ano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adherence to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 basis for contr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asurement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ments only produce numb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be useful, they m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e to business objectiv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operly interpre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 to appropriate ac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business purposes for the measurements are not understo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rong data may be gath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ay not be used proper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ypes of Measu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08200" y="1447920"/>
            <a:ext cx="779760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ments may be ei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ive or subjecti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solute or relati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icit or derive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or static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ive or explanator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generally seek objective, absolute, and explicit mea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may be dynamic or static, predictive or explanato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576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ypes of Measu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20800" y="1434960"/>
            <a:ext cx="77356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seek useful relationships that correlate, such 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size versus development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distribu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dens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also seek controlling or predictive parameters, such 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s to reduce test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s to improve review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s to improve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9020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General PSP Ques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good is my proces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can it be improv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most important improvement I should make now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others doing that works better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can I learn from other peopl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12T15:31:50Z</cp:lastPrinted>
  <dcterms:modified xsi:type="dcterms:W3CDTF">2018-09-06T00:17:06Z</dcterms:modified>
  <cp:revision>72</cp:revision>
  <dc:subject/>
  <dc:title>No Slide Title</dc:title>
</cp:coreProperties>
</file>